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AFC-7104-40C7-9B97-591013D3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BD1-5210-4BF1-8BB1-28EC7BB7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74E70-C66C-497B-9C31-CB15E1B4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F6178-C6FA-40C5-A199-29F7C604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C2E0C-0AA2-4C04-BC74-BBCC9BAE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E1619-B406-4277-9708-94E5C009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08FCD-4C7A-484F-AD09-B9278E25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8ECB2-8618-42B1-96FC-13E8E9A7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F6469-71ED-482C-823F-0275F7CD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25461-117A-4DC9-8EF2-77DE93D4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44C13-BCD1-46CE-8D42-9E278705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4BB4B-A5E0-4719-A44E-6AA81AC1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AF1-9B3F-4C74-9479-DF62ECE4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F8BD2-1AAC-497E-B56D-4EA0368C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2DCD1-0C5D-485D-9268-2043AF88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628F5-352B-48A1-BCB1-A1D738AC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D6A02-C983-4884-B9BA-84B20B01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0CA3A-6409-4634-9907-C8A97BF8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AA5EC-7625-4194-A08F-496D012C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0CEB7-0561-4750-8DC2-A79A162B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4BD48-9A97-4C88-8B00-53E79173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CD606-D0AD-4A38-B168-22A957F2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CEC57-A26E-4CAB-A954-C4632649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069-41E5-45B8-AF7A-420A18A5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3AE16-5D55-491C-A38E-7478CF6C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59BDA-E0E1-4098-88BA-D6026EB4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2FAE8-1720-4AAC-B524-26C72E45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2DDA6-EE95-43F7-AA76-A98B98E7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AED41-963F-4673-8273-5505F5AC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477D0-6EE5-4F3E-A128-95B14E23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74848-6C89-4AE5-8794-67DEFD60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E5389-1FEC-4ED6-B8C2-D54C12C2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078B4-8F70-4C05-A8BC-3A66779B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BA8F4-7A41-4A5D-8134-BB7813C5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FA1E-7D82-4602-9221-169B99C3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E0A78-E122-41C2-B242-1A746D12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74B6F-C336-4905-BDAE-A349FF8C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67746-11B8-405B-A1E4-BEB81D52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DE3DC-7CDB-446B-9D79-3050C404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DFFD4-7B26-460C-B1B5-2F5F34BD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5570C-4E2B-4C7E-9475-6931988B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208C6-95E1-4473-8EEA-626270DA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E318B-8A3B-4BE5-A193-704B4145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A8B18-793F-46D2-9135-147936C5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E1F73-4979-447B-834D-016CF1CD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2370-6F48-48CF-89FD-36479744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B3041-5CAE-40FC-9C26-2625F985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4C594-1949-4C6F-8E34-3EAE9CAE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38FFA-C03B-496C-B0A0-0AA89C3E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695EA-ED05-41B7-98E0-21F327EE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E6F84-E039-48B8-99F7-989FAEDF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4626-B5BA-4293-84E5-285FB912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BCC7-BC44-4801-8F5D-A5FBD764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CCF0-B4AD-4C11-BAFB-88942C7F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A053-6265-4FEF-940A-81C8345A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4779-4F4A-4D9B-AB52-27FBE946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500-4036-4B23-B195-09BBB8DF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D416-542B-4A52-849D-C78A0EAE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CCF2-FEED-4097-BD86-AC808997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0CB9-C875-4CC3-BCCD-D493B4DD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1997-ED43-4121-9F8B-859DC4BA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4385-F4B5-4B64-A394-C1C032F6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D5471-E7E8-46B8-B505-F1D190D2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564A9-8C05-486D-B772-9D43FC2B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5FED-43B4-4913-B1AB-FC6931B0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54903-54AA-48BE-B568-A53B2CC2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3490A-1AC4-4ECE-AD53-516A218E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E42-386D-4BDE-91D6-F0511D2E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3813C-F634-4232-A708-D1AF676A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6B167-42B5-40CE-8C2B-F89F0730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679FC-4750-48F0-B8E7-C450F15E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5FC4E-4859-4AFA-A611-8A956FE4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6FD34-2D34-4321-9FF5-05C0D07A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43FB4-5726-4C3B-B606-AB2EB624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0CA8-E102-4BC5-AB1A-8B80FBBB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95710-F883-421F-9598-457D5769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EC1B0-E412-41D1-8DFA-89D986FF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62C6B-086E-4C03-BC5D-7584A8C2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1B6F-C61E-4B39-94C3-ACDF43AD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D31E6-D8F0-48E7-9101-5EEE0982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6E551-17CE-4BF7-8E1B-CD5CC141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DC08A-C06B-4893-ACCB-8DDBBE32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772BD-C19D-4C7E-BDD1-435ECEF4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F688E-8A9E-4585-AB06-C4F8204B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A5AEB-6C17-498F-9836-FE047204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23CE9-AB08-4631-A2DA-29C499D5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A0F0E-7F20-47C8-9C92-E3521DBC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54558-B0E3-4A99-A510-7764FE91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31513-1843-454F-8BA5-E7B35471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715-E835-4A5A-829B-1FFBE982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86B27-4051-4857-A1AB-13C95E3C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E7CE0-BD2E-4CEE-B2AA-148D52C2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0C08D-67F7-430B-B9AB-C16E3DE9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D1318-AD1B-46F9-85A2-34E6EB89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E4A29-7651-4966-A00A-230903DD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96147-5E41-4444-B180-4D3DBF83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12D57-6291-4511-A8F2-31680C73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B8368-E455-4FC5-B3D1-7A6B4BA9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E8997-B4B0-4521-9920-3919A903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12774-640B-4AA0-B30D-B05FAB34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EDE-7980-497B-8AD8-40920829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7C5CF-FFAD-4D43-B6B0-C36766A9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0559C-A291-4C65-8850-EB58C1AD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AFB4A-7DDB-43AD-8D78-8CA0E28A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029CC-C7EB-4F19-9562-8120931D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E7679-E121-4312-9476-F6D5986A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D39CF-630F-46DE-A399-4DE3353A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7A69C-2752-42FA-B003-EF227770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C6940-C41F-40B8-91CF-41C07095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7B0EE-9A60-40AD-A41B-62899D7E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5DA49-010F-48B9-8517-F1373EC5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E44F-D1DD-4CB9-B094-B81C4F8E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9A130-30E4-473B-921C-EAB2DA97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81C27-F1CA-420B-A3AD-0D4EFCAB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95A9C-5DEF-4F2F-BC98-ACCB0C94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6D907-BAF6-47F4-ADAA-A5ABB3C5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F8486-BC80-47B8-ABB6-FB8E8761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9D82E-F1C3-4B3B-B749-A3AD31B7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366C2-4568-4FD4-9FB1-F9FB26B7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385F2-90D3-4CFC-B4FB-3A041746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AACFC-E53D-42F5-A76F-E4434A0A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A3E69-828A-4F8B-B087-3544EF9C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CE5-344F-44E2-BC04-E10B5077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FEAA2-BD62-4C7A-ACF9-5089C000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3020E-C2F4-4774-A80C-1078B581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377FE-BF15-4A58-8BFF-AB8556F9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B4494-4D89-45A4-A4C7-653006BD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ACFFD-2950-4E19-AE7B-4D85749A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11026-E3FC-4470-B628-1E66B139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A9504-13DD-4EC2-B2BF-04BEBC9E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76CA9-4CE1-4658-BE8D-08883404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425AD-59EC-41F5-85E4-0DF8E4FF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2261D-F02E-4BF9-879D-58C363F8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88A-342C-469D-9F3A-BF12DE91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2BC94-3284-48F4-90FC-2C272B71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FDF30-5310-4984-9049-6BA11664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B6BE6-544B-42DC-9F39-C4FEF39D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F002B-9817-45D0-90EB-019A4725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2DF1B-39D1-4892-BCA3-0C48FA5E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D55A4-57A7-45CA-A5C1-C854E4F3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A1759-87C3-478C-B4F0-3AA79240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A0DE9-DD1D-4FF5-B419-765BE73E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BDC6F-CFC5-42D4-B92A-7BF1412A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0D606-66C1-4A44-9D9A-17F15885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0727-32AB-4E62-B687-4B30F38D4C3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8212-1883-4347-9CA8-4B11C869C45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6F6C-7998-49B5-86EE-33BAF55C9D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9379-A7D6-4F48-BA75-1D053D804A4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B28A-232A-483E-90DE-4C2D3EE0D93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678D-19BA-418D-9713-AF9A1BFD4A4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DE06-6DC8-4606-8A24-A8F636E99E9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30F8-045E-4AEE-999F-F99B5490B6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BF51-1F4F-428A-B535-907ABE4DEB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F59A-CC6D-4A06-B42E-9213F3BDB65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6E3A-8267-4927-B366-D1B58C3E860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3118-59ED-4F18-AC0E-03BC16493C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63 Keď smieš z Božej milos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mieš z Božej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ravý ráno vstá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je dôvod k rad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u Bohu vzdá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ad tebou s láskou bd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ti silu d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ím verným strážcom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ťa požehn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ťa trápi bolesť, žia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 ťa k zemi tlač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cť môže nebies Kr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a všetko stač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eho pevnú vieru m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jeho pomoc dúf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dlitbou mu chválu vz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u vôľu skúm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pred s Pánom vykročí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ím verne pôjd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bavy mať nemusí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cieľu iste dôjd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tu chce ťa oblaž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žehnaním svoj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s ním budeš večne 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 je vodcom tvojí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32:33Z</dcterms:modified>
  <cp:revision>66</cp:revision>
  <dc:subject/>
  <dc:title>Je veľký náš Pán, on slávy je Kráľ Nech do všetkých strán  spev vrúcnych znie chvál.</dc:title>
</cp:coreProperties>
</file>